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77075" cy="9371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D6C60-96E4-4402-B458-BEEAA90590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162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23520" y="3964320"/>
            <a:ext cx="7162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F6A29-F2AD-42F4-B51F-05F2BC7D72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9408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23520" y="396432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94080" y="396432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3F38E-9FC4-463E-AC58-98FAA443F4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45240" y="160020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67320" y="160020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523520" y="396432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45240" y="396432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67320" y="396432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0E991-690D-4FFC-B03C-B62DCC5241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3A5DF-CC96-404E-9DB4-0F0A4856A1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EA360-F854-463D-BF9F-987CD87F52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84229-A005-440F-8082-9E3C246683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49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94080" y="1600200"/>
            <a:ext cx="349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3D78B-117F-43F8-B4DA-6B4F7A03287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3619B-32CE-49EC-B49E-A131D9414C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3520" y="2743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3E81D-D392-4449-87C3-18F0BCD267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94080" y="1600200"/>
            <a:ext cx="349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523520" y="396432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88F17-F942-4337-B820-BEF870DEF2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4617E-F10A-4DD6-AECC-5912329895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49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408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94080" y="396432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9AA2F-B62E-48D9-A531-FD2801C86E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408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23520" y="3964320"/>
            <a:ext cx="7162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6B502-299D-414E-8586-032D884B71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162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523520" y="3964320"/>
            <a:ext cx="7162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15FFC-AD9C-41CA-958D-462977BB2F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9408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523520" y="396432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94080" y="396432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3C403-4CDC-4818-BD05-F0DF941832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945240" y="160020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67320" y="160020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523520" y="396432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945240" y="396432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67320" y="396432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EC968-BCCC-4C90-B14E-21088081B6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C87F0-7A05-4F2C-8B8E-E4EFB91629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49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4080" y="1600200"/>
            <a:ext cx="349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5893D-8811-46DE-86F2-22387283F7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D43B1-3846-4E99-BD7C-208E4D8E90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3520" y="2743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3CD9F-3C8B-410A-9D59-05A8EC279C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4080" y="1600200"/>
            <a:ext cx="349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23520" y="396432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D7988-EE51-41DF-A4C9-9367B13E19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49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9408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94080" y="396432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ACC9E-CC55-4D62-AEA5-AA931CBD44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9408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23520" y="3964320"/>
            <a:ext cx="7162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DCC34-9B22-474F-8A22-5C3ECB68E9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delaware_map"/>
          <p:cNvPicPr/>
          <p:nvPr/>
        </p:nvPicPr>
        <p:blipFill>
          <a:blip r:embed="rId2"/>
          <a:srcRect l="32916" t="6212" r="36804" b="4933"/>
          <a:stretch/>
        </p:blipFill>
        <p:spPr>
          <a:xfrm>
            <a:off x="3240" y="0"/>
            <a:ext cx="1446120" cy="609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2109-A289-43D1-A9D9-F102BE3599AD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19080">
            <a:solidFill>
              <a:srgbClr val="2042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3"/>
          <a:stretch/>
        </p:blipFill>
        <p:spPr>
          <a:xfrm>
            <a:off x="76320" y="6222960"/>
            <a:ext cx="1371600" cy="453960"/>
          </a:xfrm>
          <a:prstGeom prst="rect">
            <a:avLst/>
          </a:prstGeom>
          <a:ln w="0">
            <a:noFill/>
          </a:ln>
        </p:spPr>
      </p:pic>
      <p:sp>
        <p:nvSpPr>
          <p:cNvPr id="6" name="Line 14"/>
          <p:cNvSpPr/>
          <p:nvPr/>
        </p:nvSpPr>
        <p:spPr>
          <a:xfrm flipV="1">
            <a:off x="1447920" y="0"/>
            <a:ext cx="0" cy="68580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5"/>
          <p:cNvSpPr/>
          <p:nvPr/>
        </p:nvSpPr>
        <p:spPr>
          <a:xfrm>
            <a:off x="1447920" y="1523880"/>
            <a:ext cx="769608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elaware_map"/>
          <p:cNvPicPr/>
          <p:nvPr/>
        </p:nvPicPr>
        <p:blipFill>
          <a:blip r:embed="rId2"/>
          <a:srcRect l="32916" t="6212" r="36804" b="4933"/>
          <a:stretch/>
        </p:blipFill>
        <p:spPr>
          <a:xfrm>
            <a:off x="3240" y="0"/>
            <a:ext cx="1446120" cy="6093000"/>
          </a:xfrm>
          <a:prstGeom prst="rect">
            <a:avLst/>
          </a:prstGeom>
          <a:ln w="0">
            <a:noFill/>
          </a:ln>
        </p:spPr>
      </p:pic>
      <p:sp>
        <p:nvSpPr>
          <p:cNvPr id="45" name="Line 6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19080">
            <a:solidFill>
              <a:srgbClr val="2042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3"/>
          <a:stretch/>
        </p:blipFill>
        <p:spPr>
          <a:xfrm>
            <a:off x="76320" y="6222960"/>
            <a:ext cx="1371600" cy="453960"/>
          </a:xfrm>
          <a:prstGeom prst="rect">
            <a:avLst/>
          </a:prstGeom>
          <a:ln w="0">
            <a:noFill/>
          </a:ln>
        </p:spPr>
      </p:pic>
      <p:sp>
        <p:nvSpPr>
          <p:cNvPr id="47" name="Line 8"/>
          <p:cNvSpPr/>
          <p:nvPr/>
        </p:nvSpPr>
        <p:spPr>
          <a:xfrm flipV="1">
            <a:off x="1447920" y="0"/>
            <a:ext cx="0" cy="68580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4"/>
          <a:stretch/>
        </p:blipFill>
        <p:spPr>
          <a:xfrm>
            <a:off x="2895480" y="152280"/>
            <a:ext cx="4343400" cy="14385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8C98-BFFB-4DD7-A9FD-DB70DCEBA331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joblink.delaware.gov/ada/default.cf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0CFF-5DDD-4CCF-97A4-EF20515DECD6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11040" y="2130120"/>
            <a:ext cx="62485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209680" y="2057040"/>
            <a:ext cx="6477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equent Renewal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Training Accou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Quarterly Board Meeting 7/26/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wen Jo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5D49-C98E-4D9A-B435-E98EA6132909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equent Renewal of Individual Training Account Provid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A Prov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52352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A providers are listed at 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joblink.delaware.gov/ada/default.cfm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der Training Provi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ual Renewal Process for new Program Year July 1, 2011 through June 30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llenge – To use data to evaluate the performance and to help determine what programs should be rene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– Labor market data, participant data, UI wage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on Investment for those programs that have resulted in enrollees entering employment, resulting in w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523520" y="152352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042a0"/>
                </a:solidFill>
                <a:latin typeface="Arial"/>
              </a:rPr>
              <a:t>Labor Marke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Job Tit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2008-20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hang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Grow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epla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Opening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ag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stered Nurses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440-974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308             154              135                   289                32.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rsing Aides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415-5496              81                41               45                     86                13.51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rderlies/Attend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usement/Recreational       659-700              41                21               26                     47                 8.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nd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 Care  Workers           2256-2350             94                47               74                    121                9.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ary Schoo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4673-4708            35                18               96                    114              10.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eac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,General                1785-18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15                  8               22                      30             28.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l Assist/Sec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01-2558             57                29               28                      57             14.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Pre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479-748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5                   3             128                    131               8.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154B-B7DC-49E0-A43A-4687F854EEB8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523520" y="17524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042a0"/>
                </a:solidFill>
                <a:latin typeface="Arial"/>
              </a:rPr>
              <a:t>Performance  Data    (Participant and UI Wage Data) Exits &gt;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te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cipants      Employed         Employment         Earn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gra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roll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US" sz="1400" spc="-1" strike="noStrike" u="sng" baseline="30000">
                <a:solidFill>
                  <a:srgbClr val="000000"/>
                </a:solidFill>
                <a:uFillTx/>
                <a:latin typeface="Arial"/>
              </a:rPr>
              <a:t>st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Qt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ate1st Qt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US" sz="1400" spc="-1" strike="noStrike" u="sng" baseline="30000">
                <a:solidFill>
                  <a:srgbClr val="000000"/>
                </a:solidFill>
                <a:uFillTx/>
                <a:latin typeface="Arial"/>
              </a:rPr>
              <a:t>st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Qt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rsing Aid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 Orderlies/Attendants        31                 29                       94%                $3,3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musements/Recreation          16                 15                       94%               $9,3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,General                       6                   6                      100%              $4,9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   Required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tered Employment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6%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80% of negotiated measure  82%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Wage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4,850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50% of negotiated measure  $9,7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E3F2-1B7C-412C-925C-0E010B2CB397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599840" y="1676160"/>
            <a:ext cx="7010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042a0"/>
                </a:solidFill>
                <a:latin typeface="Arial"/>
              </a:rPr>
              <a:t>Return On Inves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ntered Employment Rate  x  Earnings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=  RO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ui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rsing Aides/Orderlies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94%    x    $3,384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 $1.2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2,463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ard,Card,Games,Attendants         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94%    x   $9,377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=  6.8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1,279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,Genera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100%  x    $4,97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1.24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4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E80A-E86F-4117-9D13-F528D9385990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20:00:56Z</dcterms:created>
  <dc:creator>Bryan J Lieber</dc:creator>
  <dc:description/>
  <dc:language>en-US</dc:language>
  <cp:lastModifiedBy>gwendolyn.jones</cp:lastModifiedBy>
  <dcterms:modified xsi:type="dcterms:W3CDTF">2011-09-27T14:50:01Z</dcterms:modified>
  <cp:revision>427</cp:revision>
  <dc:subject/>
  <dc:title>Slide 1</dc:title>
</cp:coreProperties>
</file>